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ct" ContentType="image/x-pict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0.pct" ContentType="image/x-pict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good, not bad, to use materials usually used for a different mea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 of  the area is red but 6/10 of the blocks ar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way, kids will tell me it took 10 blocks to cover the whole area, so it’s really the same problem in a different gu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midway   Good news is they fixed some up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you use a bigger numerator and denominator than 1 and 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3  vs  10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oing to tell you, but it looks, again, like more than one fraction can describe the same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better language--- 4/5 of the counters are in the bag;   There are 5/4 bags of co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1/1 awesom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EA35-D978-48E4-A738-87AFC6D37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25EB-4F0B-4DDA-8DCC-C9102EA63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D5DF-0FE2-4265-A07E-4F155F4E8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C3A0-CCD1-47AC-AA09-BDB207DF5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BF10-CC22-469E-8D0C-98DC910B98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84B1-C89C-403F-B704-578585BFA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F699-317F-4AAF-910D-4163ACE97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EEFC-7159-4101-9246-68B4AD389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9F6C-9AC1-481A-B2F4-177A50567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C38F-BBA3-46D2-9265-D23534BE0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9EF5-0A84-49E9-96D5-6299A5099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B4B0-AA7C-4A17-8A43-AB5233D06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38DE-4F97-4831-A213-C3A73B3DD4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4275-D231-4176-84E6-27E5A8F585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lenar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hy students struggle with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nfortunately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ssociate the topic of fractions with difficulty, complexity, or even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 students (and lots of grown-ups) strugg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6F07-E7B5-4EF0-816A-EB41787E0F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o know why students strugg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think about what we really want students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ways, the curriculum tells us more about what we want student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o figure out what we want them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part of the struggle is not foc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5B2-131C-40B2-A631-166AD4F3C9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n the wiki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find a document that outlines specifics for Grades 1 – 9 of what the curriculum asks students to DO and what that means they need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do some examples her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EB30-5448-4DB4-808D-47B2260F2D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2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295280"/>
          <a:ext cx="8229600" cy="4119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e the relationship between number of fraction parts and sizes (investig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oup fractional parts in wholes (concre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using concrete materials (no formal not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you divide the same thing into more parts, the parts are small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can divide a whole into many equal parts, you could put the parts together again to make a who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want to know which part is more, sometimes you can just look; other times, you can overlap the parts to te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E0E8-661C-4EFD-B230-1CD75FE785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parts means small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wo big 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iden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0F63-D0FA-4960-A47C-1E5F8138D2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5791320" y="1447920"/>
            <a:ext cx="2971800" cy="1752480"/>
            <a:chOff x="5791320" y="1447920"/>
            <a:chExt cx="2971800" cy="1752480"/>
          </a:xfrm>
        </p:grpSpPr>
        <p:sp>
          <p:nvSpPr>
            <p:cNvPr id="93" name="Rectangle 4"/>
            <p:cNvSpPr/>
            <p:nvPr/>
          </p:nvSpPr>
          <p:spPr>
            <a:xfrm>
              <a:off x="5791320" y="1447920"/>
              <a:ext cx="29718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5791320" y="2362320"/>
              <a:ext cx="29718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6"/>
            <p:cNvSpPr/>
            <p:nvPr/>
          </p:nvSpPr>
          <p:spPr>
            <a:xfrm>
              <a:off x="5867280" y="15238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Happy Birthday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7"/>
            <p:cNvSpPr/>
            <p:nvPr/>
          </p:nvSpPr>
          <p:spPr>
            <a:xfrm>
              <a:off x="5867280" y="25909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Happy Birthday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parts means small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ut the first one into a LOT of equal sl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ut the second one into NOT TOO MANY equal sl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37F7-11BA-4E7A-AFAA-341C08E4ED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257800" y="3352680"/>
            <a:ext cx="2971800" cy="1752840"/>
            <a:chOff x="5257800" y="3352680"/>
            <a:chExt cx="2971800" cy="1752840"/>
          </a:xfrm>
        </p:grpSpPr>
        <p:sp>
          <p:nvSpPr>
            <p:cNvPr id="101" name="Rectangle 4"/>
            <p:cNvSpPr/>
            <p:nvPr/>
          </p:nvSpPr>
          <p:spPr>
            <a:xfrm>
              <a:off x="5257800" y="3352680"/>
              <a:ext cx="297180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5257800" y="4267080"/>
              <a:ext cx="297180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6"/>
            <p:cNvSpPr/>
            <p:nvPr/>
          </p:nvSpPr>
          <p:spPr>
            <a:xfrm>
              <a:off x="5333760" y="342864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Happy Birthday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7"/>
            <p:cNvSpPr/>
            <p:nvPr/>
          </p:nvSpPr>
          <p:spPr>
            <a:xfrm>
              <a:off x="5333760" y="449604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Happy Birthday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used fractions to describe 3 slices of each cake, what might the fraction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mount of cake is smal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30F1-937C-41AE-9CED-380F79F73E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is comparison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537B-2AAE-4F8C-9EC9-A95AAEE423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90720" y="3124080"/>
          <a:ext cx="6095880" cy="3715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90720" y="390528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10"/>
          <p:cNvSpPr/>
          <p:nvPr/>
        </p:nvSpPr>
        <p:spPr>
          <a:xfrm>
            <a:off x="990720" y="2362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st this comparison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FB54-8709-42DF-8FF0-82CDA46621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03040" y="3114720"/>
          <a:ext cx="6096240" cy="371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743200" y="41911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Box 10"/>
          <p:cNvSpPr/>
          <p:nvPr/>
        </p:nvSpPr>
        <p:spPr>
          <a:xfrm>
            <a:off x="990720" y="2362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4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95280"/>
          <a:ext cx="8229600" cy="430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 fractions using concrete materials, words, and standard fractional notation, meaning of numerator and denomin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merator and denominator tell different things about the fr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need to know what the whole is to interpret or compare fra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ame object(s) can represent different fractions, depending on the who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many ways to represent any fr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9EB1-3B91-465A-8956-DD95F90DCB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t’s start thinking about the complexity of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entence that includes these words and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C05C-B4F6-4927-ABF4-1CB3C450CB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E75F-7587-4C72-A0C7-3BD7978E87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reen shot 2012-07-17 at 2.52.06 PM.png"/>
          <p:cNvPicPr/>
          <p:nvPr/>
        </p:nvPicPr>
        <p:blipFill>
          <a:blip r:embed="rId2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4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295280"/>
          <a:ext cx="8229600" cy="457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order fractions considering size and number of 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nstrate and explain equivalent fractions, using concre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lways more than one strategy for comparing fractions, but for particular fractions, one might be easier to use than another. Many of the strategies involve renaming fra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 fraction has more than one name. If you are using the same whole, you can tell if they are the same by overlapping the two represent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FC09-812B-44A6-ADAE-9DDCA03C75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4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23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forward by halves, thirds, fourths and tenths beyond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ight be helpful to think of a fraction like a/b as a sets of 1/b. You can then count by 1/b s to get a sense of the fraction’s siz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45B1-595F-45CB-94D1-3EC9E73AB4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ich is mor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pictures where ½ of something is less than ¼ of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still write ½ &gt; 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25E6-3B80-406A-925C-F6AC534CC1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a higher gra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like comparing x/2 to y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not possible to know which is greater without knowing the relationship between x and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3856-8997-49B0-9A58-C87CF28F2B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e object- different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this triangle could be 1/2 or could be 1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317A-4717-444F-B0B5-8C3C117AB9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sosceles Triangle 4"/>
          <p:cNvSpPr/>
          <p:nvPr/>
        </p:nvSpPr>
        <p:spPr>
          <a:xfrm>
            <a:off x="3429000" y="281952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e object- different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A8FC-8E33-4E41-A6DF-8BCD991DEF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sosceles Triangle 4"/>
          <p:cNvSpPr/>
          <p:nvPr/>
        </p:nvSpPr>
        <p:spPr>
          <a:xfrm>
            <a:off x="1523880" y="220968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sosceles Triangle 5"/>
          <p:cNvSpPr/>
          <p:nvPr/>
        </p:nvSpPr>
        <p:spPr>
          <a:xfrm rot="10800000">
            <a:off x="1981080" y="220932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sosceles Triangle 6"/>
          <p:cNvSpPr/>
          <p:nvPr/>
        </p:nvSpPr>
        <p:spPr>
          <a:xfrm>
            <a:off x="4800600" y="205740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sosceles Triangle 7"/>
          <p:cNvSpPr/>
          <p:nvPr/>
        </p:nvSpPr>
        <p:spPr>
          <a:xfrm flipV="1">
            <a:off x="4800600" y="289476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sosceles Triangle 8"/>
          <p:cNvSpPr/>
          <p:nvPr/>
        </p:nvSpPr>
        <p:spPr>
          <a:xfrm>
            <a:off x="5257800" y="289548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905120" y="4267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525780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 it could even be 2/5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BB93-8EE5-49A5-A1F2-48403E1CA0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sosceles Triangle 4"/>
          <p:cNvSpPr/>
          <p:nvPr/>
        </p:nvSpPr>
        <p:spPr>
          <a:xfrm>
            <a:off x="1523880" y="220968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sosceles Triangle 5"/>
          <p:cNvSpPr/>
          <p:nvPr/>
        </p:nvSpPr>
        <p:spPr>
          <a:xfrm rot="10800000">
            <a:off x="1981080" y="220932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"/>
          <p:cNvSpPr/>
          <p:nvPr/>
        </p:nvSpPr>
        <p:spPr>
          <a:xfrm>
            <a:off x="2438280" y="2209680"/>
            <a:ext cx="454320" cy="838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unting b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? is more than 2. How big might your hop be? Where would 1 and 2 be?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0270-C708-4D44-9733-DDD3350955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4"/>
          <p:cNvGrpSpPr/>
          <p:nvPr/>
        </p:nvGrpSpPr>
        <p:grpSpPr>
          <a:xfrm>
            <a:off x="1828800" y="3657600"/>
            <a:ext cx="5486400" cy="1069560"/>
            <a:chOff x="1828800" y="3657600"/>
            <a:chExt cx="5486400" cy="1069560"/>
          </a:xfrm>
        </p:grpSpPr>
        <p:cxnSp>
          <p:nvCxnSpPr>
            <p:cNvPr id="159" name="Straight Arrow Connector 5"/>
            <p:cNvCxnSpPr/>
            <p:nvPr/>
          </p:nvCxnSpPr>
          <p:spPr>
            <a:xfrm>
              <a:off x="1904400" y="4114800"/>
              <a:ext cx="5411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0" name="TextBox 6"/>
            <p:cNvSpPr/>
            <p:nvPr/>
          </p:nvSpPr>
          <p:spPr>
            <a:xfrm>
              <a:off x="1828800" y="426744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                        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Curved Down Arrow 7"/>
            <p:cNvSpPr/>
            <p:nvPr/>
          </p:nvSpPr>
          <p:spPr>
            <a:xfrm>
              <a:off x="1981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Curved Down Arrow 8"/>
            <p:cNvSpPr/>
            <p:nvPr/>
          </p:nvSpPr>
          <p:spPr>
            <a:xfrm>
              <a:off x="2438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Curved Down Arrow 9"/>
            <p:cNvSpPr/>
            <p:nvPr/>
          </p:nvSpPr>
          <p:spPr>
            <a:xfrm>
              <a:off x="28954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Curved Down Arrow 10"/>
            <p:cNvSpPr/>
            <p:nvPr/>
          </p:nvSpPr>
          <p:spPr>
            <a:xfrm>
              <a:off x="33526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Curved Down Arrow 11"/>
            <p:cNvSpPr/>
            <p:nvPr/>
          </p:nvSpPr>
          <p:spPr>
            <a:xfrm>
              <a:off x="38098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urved Down Arrow 12"/>
            <p:cNvSpPr/>
            <p:nvPr/>
          </p:nvSpPr>
          <p:spPr>
            <a:xfrm>
              <a:off x="4267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urved Down Arrow 13"/>
            <p:cNvSpPr/>
            <p:nvPr/>
          </p:nvSpPr>
          <p:spPr>
            <a:xfrm>
              <a:off x="4724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unting b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? is more than 2. How big might your hop be? Where would 1 and 2 be?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76C0-130F-4311-80BE-61F2111DFE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4"/>
          <p:cNvGrpSpPr/>
          <p:nvPr/>
        </p:nvGrpSpPr>
        <p:grpSpPr>
          <a:xfrm>
            <a:off x="1828800" y="3657600"/>
            <a:ext cx="5486400" cy="1069560"/>
            <a:chOff x="1828800" y="3657600"/>
            <a:chExt cx="5486400" cy="1069560"/>
          </a:xfrm>
        </p:grpSpPr>
        <p:cxnSp>
          <p:nvCxnSpPr>
            <p:cNvPr id="173" name="Straight Arrow Connector 5"/>
            <p:cNvCxnSpPr/>
            <p:nvPr/>
          </p:nvCxnSpPr>
          <p:spPr>
            <a:xfrm>
              <a:off x="1904400" y="4114800"/>
              <a:ext cx="5411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74" name="TextBox 6"/>
            <p:cNvSpPr/>
            <p:nvPr/>
          </p:nvSpPr>
          <p:spPr>
            <a:xfrm>
              <a:off x="1828800" y="426744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     1          2     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Curved Down Arrow 7"/>
            <p:cNvSpPr/>
            <p:nvPr/>
          </p:nvSpPr>
          <p:spPr>
            <a:xfrm>
              <a:off x="1981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Curved Down Arrow 8"/>
            <p:cNvSpPr/>
            <p:nvPr/>
          </p:nvSpPr>
          <p:spPr>
            <a:xfrm>
              <a:off x="2438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Curved Down Arrow 9"/>
            <p:cNvSpPr/>
            <p:nvPr/>
          </p:nvSpPr>
          <p:spPr>
            <a:xfrm>
              <a:off x="28954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Curved Down Arrow 10"/>
            <p:cNvSpPr/>
            <p:nvPr/>
          </p:nvSpPr>
          <p:spPr>
            <a:xfrm>
              <a:off x="33526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Curved Down Arrow 11"/>
            <p:cNvSpPr/>
            <p:nvPr/>
          </p:nvSpPr>
          <p:spPr>
            <a:xfrm>
              <a:off x="38098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Curved Down Arrow 12"/>
            <p:cNvSpPr/>
            <p:nvPr/>
          </p:nvSpPr>
          <p:spPr>
            <a:xfrm>
              <a:off x="4267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Curved Down Arrow 13"/>
            <p:cNvSpPr/>
            <p:nvPr/>
          </p:nvSpPr>
          <p:spPr>
            <a:xfrm>
              <a:off x="4724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14"/>
          <p:cNvSpPr/>
          <p:nvPr/>
        </p:nvSpPr>
        <p:spPr>
          <a:xfrm>
            <a:off x="1981080" y="32767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unting b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? is more than 2. How big might your hop be? Where would 1 and 2 be?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72CE-45AF-45D1-85A1-06CBAB868D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4"/>
          <p:cNvGrpSpPr/>
          <p:nvPr/>
        </p:nvGrpSpPr>
        <p:grpSpPr>
          <a:xfrm>
            <a:off x="1828800" y="3657600"/>
            <a:ext cx="5486400" cy="1069560"/>
            <a:chOff x="1828800" y="3657600"/>
            <a:chExt cx="5486400" cy="1069560"/>
          </a:xfrm>
        </p:grpSpPr>
        <p:cxnSp>
          <p:nvCxnSpPr>
            <p:cNvPr id="187" name="Straight Arrow Connector 5"/>
            <p:cNvCxnSpPr/>
            <p:nvPr/>
          </p:nvCxnSpPr>
          <p:spPr>
            <a:xfrm>
              <a:off x="1904400" y="4114800"/>
              <a:ext cx="5411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88" name="TextBox 6"/>
            <p:cNvSpPr/>
            <p:nvPr/>
          </p:nvSpPr>
          <p:spPr>
            <a:xfrm>
              <a:off x="1828800" y="426744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           1              2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Curved Down Arrow 7"/>
            <p:cNvSpPr/>
            <p:nvPr/>
          </p:nvSpPr>
          <p:spPr>
            <a:xfrm>
              <a:off x="1981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Curved Down Arrow 8"/>
            <p:cNvSpPr/>
            <p:nvPr/>
          </p:nvSpPr>
          <p:spPr>
            <a:xfrm>
              <a:off x="2438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Curved Down Arrow 9"/>
            <p:cNvSpPr/>
            <p:nvPr/>
          </p:nvSpPr>
          <p:spPr>
            <a:xfrm>
              <a:off x="28954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Curved Down Arrow 10"/>
            <p:cNvSpPr/>
            <p:nvPr/>
          </p:nvSpPr>
          <p:spPr>
            <a:xfrm>
              <a:off x="33526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Curved Down Arrow 11"/>
            <p:cNvSpPr/>
            <p:nvPr/>
          </p:nvSpPr>
          <p:spPr>
            <a:xfrm>
              <a:off x="38098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Curved Down Arrow 12"/>
            <p:cNvSpPr/>
            <p:nvPr/>
          </p:nvSpPr>
          <p:spPr>
            <a:xfrm>
              <a:off x="4267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Curved Down Arrow 13"/>
            <p:cNvSpPr/>
            <p:nvPr/>
          </p:nvSpPr>
          <p:spPr>
            <a:xfrm>
              <a:off x="4724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4"/>
          <p:cNvSpPr/>
          <p:nvPr/>
        </p:nvSpPr>
        <p:spPr>
          <a:xfrm>
            <a:off x="1981080" y="32767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ili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is simple to write 8 as an improper fraction but more challenging to understand it when it is in tha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7664-8D43-4C62-A2D0-8BA1CFAB53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 a higher lev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uld be asked to solve for x so that 7/x &gt; 2 and determine even mor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BA5-56E8-4C06-84F9-78326DA5BA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295280"/>
          <a:ext cx="8229600" cy="40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, compare and order rational numb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e between equivalent forms of a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estimation with solving operations with fr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lways more than one strategy for comparing fractions, bu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on-unit fraction can be interpreted as a quotient. Knowing this might help determine the decimal form of that fr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operation with fractions holds the same meaning as it did before; knowing this can inform estimating and calculating with fra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CA3E-868A-41D5-A906-CF6009B276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295280"/>
          <a:ext cx="8229600" cy="375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 the multiplication and division of fractions, using a variety of to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problems involving +, -, x and ÷ with simple fr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 a fraction by a fraction involves temporarily changing the who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ing by a fraction involves finding how many of that fraction makes the other number or involves determining a “unit rate”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always many strategies for calculating with fra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A587-C91E-4817-8E26-102D07E19B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295280"/>
          <a:ext cx="8229600" cy="23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problems involving proportions using concretes, pictorials and 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rtion is a statement that two fractions are equival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 proportion can be solved using multiplication or division or some combination thereo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962C-745D-419D-8304-5A6D52388D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raction as a quoti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cture would you draw to show that 12/5 = 12 ÷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cture would you draw to show that 5/12 = 5 ÷ 1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99EF-3D35-4653-A47D-B542DEF7B5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le pictur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6166-2388-43A1-ABF7-DEDA3EE3C3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3"/>
          <p:cNvGrpSpPr/>
          <p:nvPr/>
        </p:nvGrpSpPr>
        <p:grpSpPr>
          <a:xfrm>
            <a:off x="838080" y="2286000"/>
            <a:ext cx="6782400" cy="1374480"/>
            <a:chOff x="838080" y="2286000"/>
            <a:chExt cx="6782400" cy="1374480"/>
          </a:xfrm>
        </p:grpSpPr>
        <p:grpSp>
          <p:nvGrpSpPr>
            <p:cNvPr id="216" name="Group 18"/>
            <p:cNvGrpSpPr/>
            <p:nvPr/>
          </p:nvGrpSpPr>
          <p:grpSpPr>
            <a:xfrm>
              <a:off x="914040" y="2666880"/>
              <a:ext cx="6706440" cy="383040"/>
              <a:chOff x="914040" y="2666880"/>
              <a:chExt cx="6706440" cy="383040"/>
            </a:xfrm>
          </p:grpSpPr>
          <p:cxnSp>
            <p:nvCxnSpPr>
              <p:cNvPr id="217" name="Straight Arrow Connector 5"/>
              <p:cNvCxnSpPr/>
              <p:nvPr/>
            </p:nvCxnSpPr>
            <p:spPr>
              <a:xfrm>
                <a:off x="914040" y="3048120"/>
                <a:ext cx="67068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18" name="Curved Down Arrow 6"/>
              <p:cNvSpPr/>
              <p:nvPr/>
            </p:nvSpPr>
            <p:spPr>
              <a:xfrm>
                <a:off x="99000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Curved Down Arrow 7"/>
              <p:cNvSpPr/>
              <p:nvPr/>
            </p:nvSpPr>
            <p:spPr>
              <a:xfrm>
                <a:off x="129492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Curved Down Arrow 8"/>
              <p:cNvSpPr/>
              <p:nvPr/>
            </p:nvSpPr>
            <p:spPr>
              <a:xfrm>
                <a:off x="159984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Curved Down Arrow 9"/>
              <p:cNvSpPr/>
              <p:nvPr/>
            </p:nvSpPr>
            <p:spPr>
              <a:xfrm>
                <a:off x="190476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Curved Down Arrow 10"/>
              <p:cNvSpPr/>
              <p:nvPr/>
            </p:nvSpPr>
            <p:spPr>
              <a:xfrm>
                <a:off x="220932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Curved Down Arrow 11"/>
              <p:cNvSpPr/>
              <p:nvPr/>
            </p:nvSpPr>
            <p:spPr>
              <a:xfrm>
                <a:off x="251424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Curved Down Arrow 12"/>
              <p:cNvSpPr/>
              <p:nvPr/>
            </p:nvSpPr>
            <p:spPr>
              <a:xfrm>
                <a:off x="281916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Curved Down Arrow 13"/>
              <p:cNvSpPr/>
              <p:nvPr/>
            </p:nvSpPr>
            <p:spPr>
              <a:xfrm>
                <a:off x="312408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Curved Down Arrow 14"/>
              <p:cNvSpPr/>
              <p:nvPr/>
            </p:nvSpPr>
            <p:spPr>
              <a:xfrm>
                <a:off x="342864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Curved Down Arrow 15"/>
              <p:cNvSpPr/>
              <p:nvPr/>
            </p:nvSpPr>
            <p:spPr>
              <a:xfrm>
                <a:off x="373356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Curved Down Arrow 16"/>
              <p:cNvSpPr/>
              <p:nvPr/>
            </p:nvSpPr>
            <p:spPr>
              <a:xfrm>
                <a:off x="403848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Curved Down Arrow 17"/>
              <p:cNvSpPr/>
              <p:nvPr/>
            </p:nvSpPr>
            <p:spPr>
              <a:xfrm>
                <a:off x="434340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Box 19"/>
            <p:cNvSpPr/>
            <p:nvPr/>
          </p:nvSpPr>
          <p:spPr>
            <a:xfrm>
              <a:off x="838080" y="3200760"/>
              <a:ext cx="67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            1            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20"/>
            <p:cNvSpPr/>
            <p:nvPr/>
          </p:nvSpPr>
          <p:spPr>
            <a:xfrm>
              <a:off x="4343400" y="22860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2514600" y="2438280"/>
              <a:ext cx="1600200" cy="80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872640" y="2571840"/>
              <a:ext cx="1837800" cy="80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le pictur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÷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E9C-4BAA-417A-8214-15DFEFABFB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14600" y="2743200"/>
          <a:ext cx="6095880" cy="185436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7960"/>
                <a:gridCol w="50832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pSp>
        <p:nvGrpSpPr>
          <p:cNvPr id="238" name="Group 10"/>
          <p:cNvGrpSpPr/>
          <p:nvPr/>
        </p:nvGrpSpPr>
        <p:grpSpPr>
          <a:xfrm>
            <a:off x="1295280" y="2743200"/>
            <a:ext cx="1219320" cy="1892880"/>
            <a:chOff x="1295280" y="2743200"/>
            <a:chExt cx="1219320" cy="1892880"/>
          </a:xfrm>
        </p:grpSpPr>
        <p:sp>
          <p:nvSpPr>
            <p:cNvPr id="239" name="TextBox 5"/>
            <p:cNvSpPr/>
            <p:nvPr/>
          </p:nvSpPr>
          <p:spPr>
            <a:xfrm>
              <a:off x="1295280" y="27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6"/>
            <p:cNvSpPr/>
            <p:nvPr/>
          </p:nvSpPr>
          <p:spPr>
            <a:xfrm>
              <a:off x="1295280" y="3048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7"/>
            <p:cNvSpPr/>
            <p:nvPr/>
          </p:nvSpPr>
          <p:spPr>
            <a:xfrm>
              <a:off x="1295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8"/>
            <p:cNvSpPr/>
            <p:nvPr/>
          </p:nvSpPr>
          <p:spPr>
            <a:xfrm>
              <a:off x="1295280" y="3886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1295280" y="4267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le pictur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÷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A81C-C233-4D92-967A-5D4F120FA2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2743200"/>
          <a:ext cx="6096240" cy="185436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  <a:gridCol w="508320"/>
                <a:gridCol w="507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ultiplying- changing the who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1/3 x 2/5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/5 temporarily becomes the whole of which we take 1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e go back to the original whole to represent the result. &lt;see pictur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C8E5-BD22-412E-A540-0B8556DD8C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ictu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x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6818-97FB-4539-9D78-68AC1F69B5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295280" y="2971800"/>
          <a:ext cx="6096240" cy="11127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Freeform 5"/>
          <p:cNvSpPr/>
          <p:nvPr/>
        </p:nvSpPr>
        <p:spPr>
          <a:xfrm>
            <a:off x="1112760" y="2911320"/>
            <a:ext cx="2687760" cy="490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ili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mproper fraction 8/4 is simple to write as a whole number, but it is hard to write 88/5 as a mixed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1AE6-6BCE-4885-8F64-32AF75A0F9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this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f you drive 75 km/h, how long does it take to go 35 k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set up a proportion 75/60 = 35/x or the proportion 75/1 = 35/x which means you want an equivalent fraction for either 75/60 or 75/1  with a numerator of 3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5545-20C8-4FFF-B702-4B25F24128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oti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actually solve the problem using operations, e.g. 35 ÷ 75 or 35 ÷ 75 x 60 but that is a different 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ED7F-9124-4D6D-9E7A-2057684444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let’s go back to specifics about struggl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task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model or draw a picture that shows both 1/6 and 5/6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18A9-7C75-41FA-AA7E-EA9CCCBDAA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sconcep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ONLY see 1/6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help to use two colours instead of only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494-237C-4C0C-B86B-D6B549C2F2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95280" y="2666880"/>
          <a:ext cx="6096240" cy="37152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e your pattern block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RED, YELLOW, GREEN, BLUE b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blocks to show each of these fractions (one at a time is f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2, 1/3, 1/6, 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83BF-8ECC-447A-AF34-1F40E60C97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strugg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focused on fractions as parts of wholes and do not accept that you can use 1/3 to describ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1EC6-A93E-40BB-9469-8400402414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Screen shot 2012-07-17 at 2.44.56 PM.png"/>
          <p:cNvPicPr/>
          <p:nvPr/>
        </p:nvPicPr>
        <p:blipFill>
          <a:blip r:embed="rId1"/>
          <a:stretch/>
        </p:blipFill>
        <p:spPr>
          <a:xfrm>
            <a:off x="1219320" y="3200400"/>
            <a:ext cx="2552760" cy="24638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4876920" y="3276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OF THE BLOCK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0B32-DB93-4811-B508-35686D06E8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Devon Class Student Response 6 Split.jpg"/>
          <p:cNvPicPr/>
          <p:nvPr/>
        </p:nvPicPr>
        <p:blipFill>
          <a:blip r:embed="rId1"/>
          <a:stretch/>
        </p:blipFill>
        <p:spPr>
          <a:xfrm>
            <a:off x="4648320" y="1447920"/>
            <a:ext cx="4368600" cy="32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Devon Class Student Response 6.jpg"/>
          <p:cNvPicPr/>
          <p:nvPr/>
        </p:nvPicPr>
        <p:blipFill>
          <a:blip r:embed="rId2"/>
          <a:stretch/>
        </p:blipFill>
        <p:spPr>
          <a:xfrm>
            <a:off x="304920" y="1523880"/>
            <a:ext cx="4240080" cy="24386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6"/>
          <p:cNvSpPr/>
          <p:nvPr/>
        </p:nvSpPr>
        <p:spPr>
          <a:xfrm>
            <a:off x="304920" y="46483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half of the area is red but more than ½ of the blocks ar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ing whole number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reasonably assume that 1/3 &gt; 1/2 since they see 3 and 2 and 3 &gt;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ased on using whole number reasoning when it does not a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ason to avoid standard notation too 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616B-6905-40AA-8328-62B57D34B7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 example of mixing up whole number and fraction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B759-5206-45BA-A42B-0B57317F0D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Screen shot 2012-07-17 at 4.24.30 PM.png"/>
          <p:cNvPicPr/>
          <p:nvPr/>
        </p:nvPicPr>
        <p:blipFill>
          <a:blip r:embed="rId1"/>
          <a:stretch/>
        </p:blipFill>
        <p:spPr>
          <a:xfrm>
            <a:off x="1981080" y="1981080"/>
            <a:ext cx="523260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marian:Users:mariansmall:Desktop:DO NOW:future speaking commitments:camppp 2012 :July:KNAER_Steve McLean PS_S02_Grade 6_Lesson Action_28March12.mov" descr="/Users/mariansmall/Desktop/DO NOW/future speaking commitments/camppp 2012 /July/KNAER_Steve McLean PS_S02_Grade 6_Lesson Action_28March12.mov"/>
          <p:cNvPicPr/>
          <p:nvPr/>
        </p:nvPicPr>
        <p:blipFill>
          <a:blip r:embed="rId1"/>
          <a:stretch/>
        </p:blipFill>
        <p:spPr>
          <a:xfrm>
            <a:off x="609480" y="380880"/>
            <a:ext cx="7886880" cy="525780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C827-DC33-47E7-93A3-5489EC9FE0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a variety of student s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 is a simple improper fraction with a denominator of 8 and the challenging part is figuring out what the numerator could 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92AF-BEDE-49D6-AD55-AEAFC443D0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ng frac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wo of these four fractions would you find easiest to compar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           4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326B-89F9-424F-A340-095DFB4F1D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son strategy strugg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think a picture is more reliable than reasoning to compare two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compare 2/5 and 3/8 (which are close), most children-drawn pictures are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0FA7-2900-4942-B920-B3D7A24149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2/5 and 3/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9BCE-E079-4C48-9777-B3BC8A063B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209680" y="1600200"/>
            <a:ext cx="4496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286000" y="2819520"/>
            <a:ext cx="4495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7"/>
          <p:cNvSpPr/>
          <p:nvPr/>
        </p:nvSpPr>
        <p:spPr>
          <a:xfrm flipV="1">
            <a:off x="2970360" y="1525680"/>
            <a:ext cx="2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8"/>
          <p:cNvSpPr/>
          <p:nvPr/>
        </p:nvSpPr>
        <p:spPr>
          <a:xfrm flipV="1">
            <a:off x="3809160" y="152352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9"/>
          <p:cNvSpPr/>
          <p:nvPr/>
        </p:nvSpPr>
        <p:spPr>
          <a:xfrm flipV="1">
            <a:off x="4723560" y="159984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0"/>
          <p:cNvSpPr/>
          <p:nvPr/>
        </p:nvSpPr>
        <p:spPr>
          <a:xfrm flipV="1">
            <a:off x="5791320" y="1599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1"/>
          <p:cNvSpPr/>
          <p:nvPr/>
        </p:nvSpPr>
        <p:spPr>
          <a:xfrm flipV="1">
            <a:off x="3886200" y="2742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2"/>
          <p:cNvSpPr/>
          <p:nvPr/>
        </p:nvSpPr>
        <p:spPr>
          <a:xfrm flipV="1">
            <a:off x="5637960" y="274284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3"/>
          <p:cNvSpPr/>
          <p:nvPr/>
        </p:nvSpPr>
        <p:spPr>
          <a:xfrm flipV="1">
            <a:off x="4494960" y="274284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 flipV="1">
            <a:off x="3276720" y="28195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15"/>
          <p:cNvSpPr/>
          <p:nvPr/>
        </p:nvSpPr>
        <p:spPr>
          <a:xfrm flipV="1">
            <a:off x="2743200" y="2742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6"/>
          <p:cNvSpPr/>
          <p:nvPr/>
        </p:nvSpPr>
        <p:spPr>
          <a:xfrm flipV="1">
            <a:off x="5105520" y="2742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7"/>
          <p:cNvSpPr/>
          <p:nvPr/>
        </p:nvSpPr>
        <p:spPr>
          <a:xfrm flipV="1">
            <a:off x="6172200" y="2742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23623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9"/>
          <p:cNvSpPr/>
          <p:nvPr/>
        </p:nvSpPr>
        <p:spPr>
          <a:xfrm>
            <a:off x="312408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22860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2743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335268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2/5 and 3/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fractions with the same denominator (16 anythings is more than 15 of those things) is more reliable. (16/40 vs 15/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819E-67A0-4F77-915A-08470835BC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2/5 and 3/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mparing fractions with the same numerator (6 big pieces is more than 6 small pieces) is more reliable. (6/15 is more than 6/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37F3-1207-4EEB-A04A-520484D6D4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possible discussion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cca says that 1/3 is less than 1/2 since 3 is more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ron says that 1/3 is more than 1/2 since 3 is more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a says that 1/3 could be more or could be less than 1/2. It dep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whom do you agre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A417-127F-43EB-B982-617ED73168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is REALLY CLOSE to 1/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it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B051-47B1-4220-89C8-4323776540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struggle for some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may have difficulty comparing fractions with big numerators and denominators because of lack of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E75F-EEB6-4284-A6F0-DA6E505F23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 example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ask which of 342/1000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/ 10 000  is greater, without using calcul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302C-31BE-40FF-8E9D-F7B71B02DA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 example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at 342/1000 is less th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/ 10 000  by thinking that the first denominator is about 3 times the first numerator and the second is about 5 times its numera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’m comparing about 1/3 to about 1/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EE63-B632-4EB7-9A33-D15E173E9D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mproper fraction 8/2 can prove to be simple or challenging to a grade 5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F0C8-C1A5-49FA-B45C-541143EAE8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gger?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fraction has both a greater numerator and a greater denominator than another, but it’s still sma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the two fraction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17BE-EAA7-44DA-9C23-0F1DF04800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might students thin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assume that 6/10 &gt; 3/4 since 6 is more than 3 and 10 is more than 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the difficulty is that we use such a limited set of numerators and denominators and/or we don’t confront the issue di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EC94-9DAF-4FE2-B312-5E957FB79C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 higher grad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s shown that many older students think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2F0D-9FD8-46B2-902A-4382476B17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2971800"/>
          <a:ext cx="10285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971800"/>
                    <a:ext cx="1028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4724280" y="3048120"/>
          <a:ext cx="127008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048120"/>
                    <a:ext cx="12700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t’s look at a new issu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F1D1-83F1-4F69-9364-FE51FD5D99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marian:Users:mariansmall:Desktop:DO NOW:future speaking commitments:camppp 2012 :July:KNAER_Holly Meadows PS_S02_Student Misconceptions_29March12.mov" descr="/Users/mariansmall/Desktop/DO NOW/future speaking commitments/camppp 2012 /July/KNAER_Holly Meadows PS_S02_Student Misconceptions_29March12.mov"/>
          <p:cNvPicPr/>
          <p:nvPr/>
        </p:nvPicPr>
        <p:blipFill>
          <a:blip r:embed="rId1"/>
          <a:stretch/>
        </p:blipFill>
        <p:spPr>
          <a:xfrm>
            <a:off x="609480" y="304920"/>
            <a:ext cx="788688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B778-53C1-44CE-971F-147B1B3DF7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marian:Users:mariansmall:Desktop:DO NOW:future speaking commitments:camppp 2012 :July:KNAER_Emma King PS_S02_Action_03April12.mov" descr="/Users/mariansmall/Desktop/DO NOW/future speaking commitments/camppp 2012 /July/KNAER_Emma King PS_S02_Action_03April12.mov"/>
          <p:cNvPicPr/>
          <p:nvPr/>
        </p:nvPicPr>
        <p:blipFill>
          <a:blip r:embed="rId1"/>
          <a:stretch/>
        </p:blipFill>
        <p:spPr>
          <a:xfrm>
            <a:off x="685800" y="304920"/>
            <a:ext cx="7886880" cy="52578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AB72-7CC2-4855-9A6E-5BBDCE3D83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fraction do you se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219320" y="1676520"/>
          <a:ext cx="2590560" cy="128592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E5A2-4B69-4E9E-A2AE-AE4AB4F5D0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343400" y="1676520"/>
          <a:ext cx="2590920" cy="12859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ing improper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whole is not identified, it is not reasonable for students to know what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identify and/or have students identify th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15ED-53BF-4AFE-B3B2-D664FFB4BA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ruggles with equating fractions with divi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ddressed this earlier, but many students accept, but don’t understand, why you divide the numerator by denominator to name a fraction as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ill write 2/3 as 1.5 since they divide 3 by 2. They figure that makes more sense than dividing 2 by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F530-D3E4-43F0-B53D-FAB1A57FB9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  a higher gra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what  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ight mean 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ared into 2 parts (division) or 5/2 multipli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 drawing 2 ½ copi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422A-420B-4DBA-B972-847A25BB8E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/8 is an improper fraction it is challenging but somewhat sim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7324-0556-4333-9F85-C070168414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ook at the fraction tow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ivide two fractions and the answer is just a little more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the fractions have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4717-B296-4777-8F01-2FABBC15D0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8208-EA07-4E78-9411-5DB33870AE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Screen shot 2012-07-17 at 4.43.42 PM.png"/>
          <p:cNvPicPr/>
          <p:nvPr/>
        </p:nvPicPr>
        <p:blipFill>
          <a:blip r:embed="rId1"/>
          <a:stretch/>
        </p:blipFill>
        <p:spPr>
          <a:xfrm>
            <a:off x="27432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380880" y="137160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is a little more than 2 when you divide two f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ith the tow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looking for any fraction that is just a bit less than half of another on the t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uld be, e.g. 1/5 and 1/2 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2 and 2/3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FAEB-4903-46AA-8C2D-D72729D88D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E40C-02D7-43EE-9514-7BCF7EA4D9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Screen shot 2012-07-17 at 4.43.42 PM.png"/>
          <p:cNvPicPr/>
          <p:nvPr/>
        </p:nvPicPr>
        <p:blipFill>
          <a:blip r:embed="rId1"/>
          <a:stretch/>
        </p:blipFill>
        <p:spPr>
          <a:xfrm>
            <a:off x="27432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5"/>
          <p:cNvSpPr/>
          <p:nvPr/>
        </p:nvSpPr>
        <p:spPr>
          <a:xfrm>
            <a:off x="380880" y="137160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is a little more than 2 when you divide ½ by 1/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2895480" y="2133720"/>
            <a:ext cx="9907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2895480" y="609480"/>
            <a:ext cx="2514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 flipH="1">
            <a:off x="4876920" y="228600"/>
            <a:ext cx="144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BDFA-0605-4C54-B9AF-5E25655030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Screen shot 2012-07-17 at 4.43.42 PM.png"/>
          <p:cNvPicPr/>
          <p:nvPr/>
        </p:nvPicPr>
        <p:blipFill>
          <a:blip r:embed="rId1"/>
          <a:stretch/>
        </p:blipFill>
        <p:spPr>
          <a:xfrm>
            <a:off x="27432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380880" y="1371600"/>
            <a:ext cx="1905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is a little more than 2 when you divide tw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12 by 1/8 or 5/18 by 1/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2895480" y="3200400"/>
            <a:ext cx="609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895480" y="46483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9"/>
          <p:cNvSpPr/>
          <p:nvPr/>
        </p:nvSpPr>
        <p:spPr>
          <a:xfrm flipH="1">
            <a:off x="4266720" y="609480"/>
            <a:ext cx="1800" cy="579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o avoid the problem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when students see 2 ÷ 1/3, we read it as How many 1/3s are in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read 1/2 ÷ 1/5, they think: “How many 1/5s are in 1/2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730F-A633-46B4-A7F1-47CA629D67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dd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it rains 2 days in one week and 3 in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ay it rained 5/14 of the days, essentially adding the numerators and denomin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2/7 + 3/7 = 5/7 and not 5/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going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435B-E88F-4F76-B35D-834FE1CFCF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rugg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onship between fractions and ratios is a strug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ratio situation, you are combining parts of different wholes and comparing to the combined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raction situation, you are combining parts of the same whole and comparing to that on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0C79-A420-4913-BF27-3BFF0BE306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ing common denomin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assume that since you use common denominators for addition and subtraction, you should for multiplication and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not wrong. It is inefficient for multiplication (although not really for divis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2460-6FB2-4CEC-AA46-BCF6813D7D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ing common denomin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indication that kids are learning rules but not understanding why thing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80DB-CB59-4B59-BF79-7F86DB0703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improper fraction can make fractions both simple and challenging. Let’s say you have 1 3/8 – 7/8, you can’t do it unless you change the 1 3/8 into a proper fraction. That is 1 3/8 = 11/8-7/8=4/8. The reason they can make it more challenging is you have 2 3/8 -17/8. It is still solvable but it can get confus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864A-8479-477D-89EA-6C216E3E39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y it’s not inefficient for divi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ere calculating  2/3 ÷ 1/4 (which asks how many 1/4s are in 2/3), it is actually convenient to think of 8/12 ÷ 3/12 and realize the answer is 8 ÷ 3 (or 8/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0E4-3249-496A-9C96-21028FE45D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ich are correct and why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     5     5               3     12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      5    3               9       4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804-D4A4-4C99-A265-51EB26DCC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5"/>
          <p:cNvSpPr/>
          <p:nvPr/>
        </p:nvSpPr>
        <p:spPr>
          <a:xfrm flipV="1">
            <a:off x="990720" y="1752120"/>
            <a:ext cx="1295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7"/>
          <p:cNvSpPr/>
          <p:nvPr/>
        </p:nvSpPr>
        <p:spPr>
          <a:xfrm>
            <a:off x="2209680" y="335268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>
            <a:off x="4800600" y="1905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2"/>
          <p:cNvSpPr/>
          <p:nvPr/>
        </p:nvSpPr>
        <p:spPr>
          <a:xfrm>
            <a:off x="4800600" y="35812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students to cross-out without meaning is not good– they need to think about why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 left one is easy to show: 2/3 of 3 of anything is 2 of that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7469-7F10-40B9-8B7F-A558D390CB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447920" y="4572000"/>
          <a:ext cx="6095880" cy="3650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Freeform 5"/>
          <p:cNvSpPr/>
          <p:nvPr/>
        </p:nvSpPr>
        <p:spPr>
          <a:xfrm>
            <a:off x="1260360" y="4327560"/>
            <a:ext cx="2700360" cy="89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Screen shot 2012-07-17 at 5.23.40 PM.png"/>
          <p:cNvPicPr/>
          <p:nvPr/>
        </p:nvPicPr>
        <p:blipFill>
          <a:blip r:embed="rId1"/>
          <a:stretch/>
        </p:blipFill>
        <p:spPr>
          <a:xfrm>
            <a:off x="5410080" y="5029200"/>
            <a:ext cx="1752840" cy="8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ttom right one is explained by thinking of 2/9 x 5/4 = 2/4 x 5/9 and then  renaming 2/4 as 1/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riting the 1 for 1/2  does cause difficulties for som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539E-DB20-4AD0-A0AA-6883A19C7B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Screen shot 2012-07-17 at 5.23.45 PM.png"/>
          <p:cNvPicPr/>
          <p:nvPr/>
        </p:nvPicPr>
        <p:blipFill>
          <a:blip r:embed="rId1"/>
          <a:stretch/>
        </p:blipFill>
        <p:spPr>
          <a:xfrm>
            <a:off x="6248520" y="2819520"/>
            <a:ext cx="2000160" cy="123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s was just a start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lot of literature and lots of information about fraction strug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ure you will meet many more of these issues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t can seem like a downer, knowledge is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D936-8FC4-457E-98FF-9D3F0C7D73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 are three kinds of fractions, the simple fractions and the challenging fractions and the improper fr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2750-C24A-4D32-89B9-309B0A701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16:24:00Z</dcterms:created>
  <dc:creator>CSC</dc:creator>
  <dc:description/>
  <dc:language>en-US</dc:language>
  <cp:lastModifiedBy>Marian Small</cp:lastModifiedBy>
  <dcterms:modified xsi:type="dcterms:W3CDTF">2012-07-22T16:52:32Z</dcterms:modified>
  <cp:revision>120</cp:revision>
  <dc:subject/>
  <dc:title>&lt;Title&gt;</dc:title>
</cp:coreProperties>
</file>